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69D4-36ED-4B7E-BB18-DAEBA77E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893-C99E-41ED-8C90-4045AB99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22E-36E9-4C18-BE9C-6686F975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952-44BE-4AEA-8F94-CD12C361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387A-CCCC-49D3-89A1-D137C9A7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FF2-FA67-4856-A3DF-37F57EBA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18E-AC34-42BE-ABCD-90859B0A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D5D-6B70-412B-BC65-83B656BF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38E-12A5-4B8B-904F-FC3623DF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876-18C8-41D0-9D63-E133B14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F12-9B66-4C0F-AE4E-AF765F0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04C-0A4E-4061-A971-9B391611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BBC5-3E31-42EC-B0F0-23772E880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DB: A Generic Insertional Mutagenesis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800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aokang Pan and Lincoln S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distribution" descr=""/>
          <p:cNvPicPr/>
          <p:nvPr/>
        </p:nvPicPr>
        <p:blipFill>
          <a:blip r:embed="rId1"/>
          <a:stretch/>
        </p:blipFill>
        <p:spPr>
          <a:xfrm>
            <a:off x="565200" y="771480"/>
            <a:ext cx="80136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IDB Future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6781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es for phenotype and 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 with gene ontology, plant ontology, trait ontology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chema for Phenotype and Gene Expres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1480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19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724280"/>
            <a:ext cx="14479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765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63868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562720"/>
            <a:ext cx="121932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2860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971800"/>
            <a:ext cx="13716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648320"/>
            <a:ext cx="129528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81480" y="4800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181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0960" y="46483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5812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09680" y="2895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4572000"/>
            <a:ext cx="22100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828800" y="5257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047760" y="5181480"/>
            <a:ext cx="15238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25909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429000"/>
            <a:ext cx="18288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514240" y="266652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600200"/>
            <a:ext cx="1600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I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73392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666520" y="36576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86692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38280" y="35049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4382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Spring Harbor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Hong Liu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r postdoc in Stein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Schmi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lleag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6080" y="2438280"/>
            <a:ext cx="2975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Innes Centre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Mike Be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Jonathan Cla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technical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e sequenced insertion sites for model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users with useful tools to search for insertions in gene of interest and to track progress of the multinational effort to find insertions in each ge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the study of insertion site distrib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ion Mapp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057400"/>
            <a:ext cx="2971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nk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195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00400"/>
            <a:ext cx="2971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U-BLAS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4267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top hit with sco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410080"/>
            <a:ext cx="29718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insertion site o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410080"/>
            <a:ext cx="327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it to a clone &amp;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4267080"/>
            <a:ext cx="327636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GR genome 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647960" y="4876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18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3124080"/>
            <a:ext cx="3352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GR pseudo-chromosom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267080" y="3505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Design (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 Schem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8520" y="1984320"/>
            <a:ext cx="1585800" cy="711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20968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124080"/>
            <a:ext cx="1363680" cy="584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276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54840" y="316692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08880" y="335448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8520" y="5294160"/>
            <a:ext cx="1511280" cy="532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62320" y="54561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38520" y="4289400"/>
            <a:ext cx="151128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51280" y="4497480"/>
            <a:ext cx="109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lanking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7680" y="4289400"/>
            <a:ext cx="135900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8916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11160" y="4476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c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54840" y="4289400"/>
            <a:ext cx="1434960" cy="592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67600" y="447660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840" y="44766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0" y="2576520"/>
            <a:ext cx="1577520" cy="623160"/>
            <a:chOff x="2286000" y="2576520"/>
            <a:chExt cx="1577520" cy="623160"/>
          </a:xfrm>
        </p:grpSpPr>
        <p:sp>
          <p:nvSpPr>
            <p:cNvPr id="78" name=""/>
            <p:cNvSpPr/>
            <p:nvPr/>
          </p:nvSpPr>
          <p:spPr>
            <a:xfrm flipV="1">
              <a:off x="2286000" y="2606760"/>
              <a:ext cx="1496880" cy="59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54800" y="2576520"/>
              <a:ext cx="108720" cy="6264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64" y="91"/>
                  </a:moveTo>
                  <a:lnTo>
                    <a:pt x="139" y="0"/>
                  </a:lnTo>
                  <a:lnTo>
                    <a:pt x="0" y="8"/>
                  </a:lnTo>
                  <a:lnTo>
                    <a:pt x="6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676520" y="3733920"/>
            <a:ext cx="99720" cy="532440"/>
            <a:chOff x="1676520" y="3733920"/>
            <a:chExt cx="99720" cy="532440"/>
          </a:xfrm>
        </p:grpSpPr>
        <p:sp>
          <p:nvSpPr>
            <p:cNvPr id="81" name=""/>
            <p:cNvSpPr/>
            <p:nvPr/>
          </p:nvSpPr>
          <p:spPr>
            <a:xfrm flipV="1">
              <a:off x="1725480" y="3817440"/>
              <a:ext cx="1080" cy="44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76520" y="3733920"/>
              <a:ext cx="99720" cy="87480"/>
            </a:xfrm>
            <a:custGeom>
              <a:avLst/>
              <a:gdLst/>
              <a:ahLst/>
              <a:rect l="l" t="t" r="r" b="b"/>
              <a:pathLst>
                <a:path w="124" h="98">
                  <a:moveTo>
                    <a:pt x="124" y="98"/>
                  </a:moveTo>
                  <a:lnTo>
                    <a:pt x="61" y="0"/>
                  </a:lnTo>
                  <a:lnTo>
                    <a:pt x="0" y="98"/>
                  </a:lnTo>
                  <a:lnTo>
                    <a:pt x="12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06680" y="4546440"/>
            <a:ext cx="1131840" cy="78120"/>
            <a:chOff x="2506680" y="4546440"/>
            <a:chExt cx="1131840" cy="78120"/>
          </a:xfrm>
        </p:grpSpPr>
        <p:sp>
          <p:nvSpPr>
            <p:cNvPr id="84" name=""/>
            <p:cNvSpPr/>
            <p:nvPr/>
          </p:nvSpPr>
          <p:spPr>
            <a:xfrm>
              <a:off x="2506680" y="4584600"/>
              <a:ext cx="1036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4024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0" y="97"/>
                  </a:moveTo>
                  <a:lnTo>
                    <a:pt x="123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148360" y="4546440"/>
            <a:ext cx="906480" cy="78120"/>
            <a:chOff x="5148360" y="4546440"/>
            <a:chExt cx="906480" cy="78120"/>
          </a:xfrm>
        </p:grpSpPr>
        <p:sp>
          <p:nvSpPr>
            <p:cNvPr id="87" name=""/>
            <p:cNvSpPr/>
            <p:nvPr/>
          </p:nvSpPr>
          <p:spPr>
            <a:xfrm flipH="1">
              <a:off x="5241960" y="4584600"/>
              <a:ext cx="81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48360" y="4546440"/>
              <a:ext cx="98280" cy="781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0"/>
                  </a:moveTo>
                  <a:lnTo>
                    <a:pt x="0" y="48"/>
                  </a:lnTo>
                  <a:lnTo>
                    <a:pt x="125" y="97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684840" y="3757680"/>
            <a:ext cx="98640" cy="531720"/>
            <a:chOff x="6684840" y="3757680"/>
            <a:chExt cx="98640" cy="531720"/>
          </a:xfrm>
        </p:grpSpPr>
        <p:sp>
          <p:nvSpPr>
            <p:cNvPr id="90" name=""/>
            <p:cNvSpPr/>
            <p:nvPr/>
          </p:nvSpPr>
          <p:spPr>
            <a:xfrm flipV="1">
              <a:off x="6734160" y="383076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84840" y="37576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125" y="97"/>
                  </a:moveTo>
                  <a:lnTo>
                    <a:pt x="61" y="0"/>
                  </a:lnTo>
                  <a:lnTo>
                    <a:pt x="0" y="97"/>
                  </a:lnTo>
                  <a:lnTo>
                    <a:pt x="12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5978520" y="1984320"/>
            <a:ext cx="1511280" cy="65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2000" y="2209680"/>
            <a:ext cx="45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684840" y="2635200"/>
            <a:ext cx="98640" cy="531720"/>
            <a:chOff x="6684840" y="2635200"/>
            <a:chExt cx="98640" cy="531720"/>
          </a:xfrm>
        </p:grpSpPr>
        <p:sp>
          <p:nvSpPr>
            <p:cNvPr id="95" name=""/>
            <p:cNvSpPr/>
            <p:nvPr/>
          </p:nvSpPr>
          <p:spPr>
            <a:xfrm>
              <a:off x="6734160" y="2635200"/>
              <a:ext cx="14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84840" y="3090960"/>
              <a:ext cx="98640" cy="759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1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344840" y="4879800"/>
            <a:ext cx="98640" cy="414360"/>
            <a:chOff x="4344840" y="4879800"/>
            <a:chExt cx="98640" cy="414360"/>
          </a:xfrm>
        </p:grpSpPr>
        <p:sp>
          <p:nvSpPr>
            <p:cNvPr id="98" name=""/>
            <p:cNvSpPr/>
            <p:nvPr/>
          </p:nvSpPr>
          <p:spPr>
            <a:xfrm>
              <a:off x="4392720" y="4879800"/>
              <a:ext cx="1440" cy="33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4840" y="521640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6">
                  <a:moveTo>
                    <a:pt x="0" y="0"/>
                  </a:moveTo>
                  <a:lnTo>
                    <a:pt x="62" y="96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06680" y="3424320"/>
            <a:ext cx="3548160" cy="77760"/>
            <a:chOff x="2506680" y="3424320"/>
            <a:chExt cx="3548160" cy="77760"/>
          </a:xfrm>
        </p:grpSpPr>
        <p:sp>
          <p:nvSpPr>
            <p:cNvPr id="101" name=""/>
            <p:cNvSpPr/>
            <p:nvPr/>
          </p:nvSpPr>
          <p:spPr>
            <a:xfrm flipH="1">
              <a:off x="2600280" y="3462480"/>
              <a:ext cx="3454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6680" y="3424320"/>
              <a:ext cx="9828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0"/>
                  </a:moveTo>
                  <a:lnTo>
                    <a:pt x="0" y="49"/>
                  </a:lnTo>
                  <a:lnTo>
                    <a:pt x="125" y="98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997520" y="2576520"/>
            <a:ext cx="1282320" cy="649440"/>
            <a:chOff x="4997520" y="2576520"/>
            <a:chExt cx="1282320" cy="649440"/>
          </a:xfrm>
        </p:grpSpPr>
        <p:sp>
          <p:nvSpPr>
            <p:cNvPr id="104" name=""/>
            <p:cNvSpPr/>
            <p:nvPr/>
          </p:nvSpPr>
          <p:spPr>
            <a:xfrm flipH="1" flipV="1">
              <a:off x="5074920" y="2614680"/>
              <a:ext cx="1204920" cy="6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2576520"/>
              <a:ext cx="109440" cy="745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138" y="14"/>
                  </a:moveTo>
                  <a:lnTo>
                    <a:pt x="0" y="0"/>
                  </a:lnTo>
                  <a:lnTo>
                    <a:pt x="71" y="95"/>
                  </a:lnTo>
                  <a:lnTo>
                    <a:pt x="1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638520" y="3462480"/>
            <a:ext cx="1511280" cy="591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17880" y="3649680"/>
            <a:ext cx="31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79040" y="36496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5560" y="364968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4840" y="4052880"/>
            <a:ext cx="98640" cy="236520"/>
            <a:chOff x="4344840" y="4052880"/>
            <a:chExt cx="98640" cy="236520"/>
          </a:xfrm>
        </p:grpSpPr>
        <p:sp>
          <p:nvSpPr>
            <p:cNvPr id="111" name=""/>
            <p:cNvSpPr/>
            <p:nvPr/>
          </p:nvSpPr>
          <p:spPr>
            <a:xfrm>
              <a:off x="4392720" y="4052880"/>
              <a:ext cx="14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4840" y="4213080"/>
              <a:ext cx="98640" cy="76320"/>
            </a:xfrm>
            <a:custGeom>
              <a:avLst/>
              <a:gdLst/>
              <a:ahLst/>
              <a:rect l="l" t="t" r="r" b="b"/>
              <a:pathLst>
                <a:path w="125" h="97">
                  <a:moveTo>
                    <a:pt x="0" y="0"/>
                  </a:moveTo>
                  <a:lnTo>
                    <a:pt x="62" y="97"/>
                  </a:lnTo>
                  <a:lnTo>
                    <a:pt x="1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344840" y="2693880"/>
            <a:ext cx="98640" cy="768600"/>
            <a:chOff x="4344840" y="2693880"/>
            <a:chExt cx="98640" cy="768600"/>
          </a:xfrm>
        </p:grpSpPr>
        <p:sp>
          <p:nvSpPr>
            <p:cNvPr id="114" name=""/>
            <p:cNvSpPr/>
            <p:nvPr/>
          </p:nvSpPr>
          <p:spPr>
            <a:xfrm flipV="1">
              <a:off x="4392720" y="2766960"/>
              <a:ext cx="1440" cy="69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4840" y="2693880"/>
              <a:ext cx="98640" cy="77760"/>
            </a:xfrm>
            <a:custGeom>
              <a:avLst/>
              <a:gdLst/>
              <a:ahLst/>
              <a:rect l="l" t="t" r="r" b="b"/>
              <a:pathLst>
                <a:path w="125" h="98">
                  <a:moveTo>
                    <a:pt x="125" y="98"/>
                  </a:moveTo>
                  <a:lnTo>
                    <a:pt x="62" y="0"/>
                  </a:lnTo>
                  <a:lnTo>
                    <a:pt x="0" y="98"/>
                  </a:lnTo>
                  <a:lnTo>
                    <a:pt x="1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and Database Implement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arsing, insertion mapping and data loading scripts coded in Per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interfaces use Perl-CGI scrip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implemented using MySQL, a relational DB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homepage1" descr=""/>
          <p:cNvPicPr/>
          <p:nvPr/>
        </p:nvPicPr>
        <p:blipFill>
          <a:blip r:embed="rId1"/>
          <a:stretch/>
        </p:blipFill>
        <p:spPr>
          <a:xfrm>
            <a:off x="507960" y="270000"/>
            <a:ext cx="812808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rotein" descr=""/>
          <p:cNvPicPr/>
          <p:nvPr/>
        </p:nvPicPr>
        <p:blipFill>
          <a:blip r:embed="rId1"/>
          <a:stretch/>
        </p:blipFill>
        <p:spPr>
          <a:xfrm>
            <a:off x="571680" y="771480"/>
            <a:ext cx="8001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gbrowse" descr=""/>
          <p:cNvPicPr/>
          <p:nvPr/>
        </p:nvPicPr>
        <p:blipFill>
          <a:blip r:embed="rId1"/>
          <a:stretch/>
        </p:blipFill>
        <p:spPr>
          <a:xfrm>
            <a:off x="561960" y="777960"/>
            <a:ext cx="8020080" cy="5302080"/>
          </a:xfrm>
          <a:prstGeom prst="rect">
            <a:avLst/>
          </a:prstGeom>
          <a:ln w="0">
            <a:noFill/>
          </a:ln>
        </p:spPr>
      </p:pic>
      <p:pic>
        <p:nvPicPr>
          <p:cNvPr id="122" name="protein" descr=""/>
          <p:cNvPicPr/>
          <p:nvPr/>
        </p:nvPicPr>
        <p:blipFill>
          <a:blip r:embed="rId2"/>
          <a:stretch/>
        </p:blipFill>
        <p:spPr>
          <a:xfrm>
            <a:off x="571680" y="781200"/>
            <a:ext cx="8001000" cy="5295600"/>
          </a:xfrm>
          <a:prstGeom prst="rect">
            <a:avLst/>
          </a:prstGeom>
          <a:ln w="0">
            <a:noFill/>
          </a:ln>
        </p:spPr>
      </p:pic>
      <p:pic>
        <p:nvPicPr>
          <p:cNvPr id="123" name="gene" descr=""/>
          <p:cNvPicPr/>
          <p:nvPr/>
        </p:nvPicPr>
        <p:blipFill>
          <a:blip r:embed="rId3"/>
          <a:stretch/>
        </p:blipFill>
        <p:spPr>
          <a:xfrm>
            <a:off x="533520" y="762120"/>
            <a:ext cx="8270640" cy="54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8T00:05:12Z</dcterms:created>
  <dc:creator>pan</dc:creator>
  <dc:description/>
  <dc:language>en-US</dc:language>
  <cp:lastModifiedBy>pan</cp:lastModifiedBy>
  <dcterms:modified xsi:type="dcterms:W3CDTF">2003-05-02T14:39:05Z</dcterms:modified>
  <cp:revision>230</cp:revision>
  <dc:subject/>
  <dc:title>Comparative Analysis of Defective Spm, Dissociation and T-DNA Insertions in Arabidopsis Using ATIDB</dc:title>
</cp:coreProperties>
</file>